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BBD3D-B05D-411F-81F7-FF5FF33327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66340-5B0F-4102-A9A5-6715808142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7FE7D-81DE-436C-B558-F3128F21AE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47337-4F4A-4AAB-95E1-16A539C2DA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20C4C-A143-489F-8306-66AD9BC073D9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2DE78-CE16-41CA-96C3-FA87FC37FC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45AE-5A32-4F93-BE60-62EF2CD3E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9A2F-CCF1-4BEC-B289-4E1C2D4EE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BA95-5254-4461-817C-DD2EBD39E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138E-DD53-45ED-A423-3C83EFCAD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539B-AE0A-41CC-9860-322AE56D0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18F7-5F90-40CD-8282-A54C41DB3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A177-64A3-44CE-8D57-51AA25B20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36B3-8786-456D-BAD6-A3EA914AB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0742-82C7-493F-B59A-33C2CB744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EB98-7AF1-4B0C-A9A2-63FFC1AAA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5D1B-0B76-4AD5-BE5D-3AE3740C7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1945-B481-46DD-A451-2E752F1AE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3DB9D-56CB-4FD3-A901-CCF2C31C04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052640"/>
            <a:ext cx="777240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br>
              <a:rPr sz="2900"/>
            </a:b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ификациј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номенклатура</a:t>
            </a:r>
            <a:r>
              <a:rPr b="1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ова</a:t>
            </a:r>
            <a:br>
              <a:rPr sz="3600"/>
            </a:br>
            <a:r>
              <a:rPr b="0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удије коришћења лекова</a:t>
            </a: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исане академске студије фармациј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1 Увод у фармацеутску праксу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Ц класификаци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Ц класификација  развијена од стране скандинавских научника 60-тих година прошлог века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Ц класификација је </a:t>
            </a:r>
            <a:r>
              <a:rPr b="0" lang="sr-CS" sz="28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међународни стандард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алфанумеричког је типа и има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т нивоа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    </a:t>
            </a:r>
            <a:r>
              <a:rPr b="0" lang="sr-CS" sz="28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- главна анатомска група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    </a:t>
            </a:r>
            <a:r>
              <a:rPr b="0" lang="sr-CS" sz="28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- терапијска подгрупа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    </a:t>
            </a:r>
            <a:r>
              <a:rPr b="0" lang="sr-CS" sz="28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- фармаколошка подгрупа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    </a:t>
            </a:r>
            <a:r>
              <a:rPr b="0" lang="sr-CS" sz="28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- хемијска подгрупа 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    </a:t>
            </a:r>
            <a:r>
              <a:rPr b="0" lang="sr-CS" sz="28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- хемијска супстанца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179280" y="428400"/>
            <a:ext cx="850752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снови анатомски нивои</a:t>
            </a:r>
            <a:r>
              <a:rPr b="1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у разврстани у </a:t>
            </a:r>
            <a:r>
              <a:rPr b="1" lang="sr-CS" sz="2200" spc="-1" strike="noStrike" u="sng">
                <a:solidFill>
                  <a:srgbClr val="c0504d"/>
                </a:solidFill>
                <a:uFillTx/>
                <a:latin typeface="Times New Roman"/>
                <a:ea typeface="Times New Roman"/>
              </a:rPr>
              <a:t>14 главних</a:t>
            </a:r>
            <a:r>
              <a:rPr b="1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2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група према системима органа</a:t>
            </a:r>
            <a:r>
              <a:rPr b="1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то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дигестивни тракт и метаболизам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крв и крвотворни органи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кардиоваскуларни систем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дерматолошки леков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генитоуринарни систем и полни хормон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системски хормони без полних хормона и инсулин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антиинфективни лекови за системску примен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антинеопластици и имуномодулирајући леков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мишићно-скелетни систем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нервни систем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антипаразитарни производи, инсектициди и репелент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респираторни систем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чулни орган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остал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179280" y="1557000"/>
            <a:ext cx="85075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диоваскуларни систем (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а анатомска група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sr-CS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01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апија срца (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апијска подгрупа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</a:t>
            </a:r>
            <a:r>
              <a:rPr b="1" lang="sr-C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r>
              <a:rPr b="0" lang="sr-C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дијални гликозиди (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колошка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рупа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А</a:t>
            </a:r>
            <a:r>
              <a:rPr b="1" lang="sr-CS" sz="3200" spc="-1" strike="noStrike">
                <a:solidFill>
                  <a:srgbClr val="000092"/>
                </a:solidFill>
                <a:latin typeface="Times New Roman"/>
                <a:ea typeface="Times New Roman"/>
              </a:rPr>
              <a:t>А</a:t>
            </a:r>
            <a:r>
              <a:rPr b="1" lang="sr-CS" sz="32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икозиди дигиталиса (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мијска подгрупа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АА</a:t>
            </a:r>
            <a:r>
              <a:rPr b="1" lang="sr-CS" sz="32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05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гоксин (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мијска супстанца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Ц класификација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96472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Ц шифра је </a:t>
            </a:r>
            <a:r>
              <a:rPr b="0" lang="sr-CS" sz="24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опредељена системом органа, односно терапијском индикацијом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олико се лек користи за лечење сасвим различитих болести, мора имати посебан код за свако фармакотерапијско подручј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: </a:t>
            </a:r>
            <a:r>
              <a:rPr b="0" lang="sr-CS" sz="24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метронидазол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антипаразитни лек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 – антибиотик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дерматолошки препара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гинеколошки препара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отреба АТЦ/ДДД систем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4582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ћење прописивања лекова (потрошња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ДД</a:t>
            </a:r>
            <a:r>
              <a:rPr b="1" lang="sr-C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sr-C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0 становника</a:t>
            </a:r>
            <a:r>
              <a:rPr b="1" lang="sr-C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sr-C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ДД</a:t>
            </a:r>
            <a:r>
              <a:rPr b="1" lang="sr-C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sr-C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 болесничких дана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ДД</a:t>
            </a:r>
            <a:r>
              <a:rPr b="1" lang="sr-C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sr-C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ој</a:t>
            </a:r>
            <a:r>
              <a:rPr b="1" lang="sr-C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овника</a:t>
            </a:r>
            <a:r>
              <a:rPr b="1" lang="sr-C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годину</a:t>
            </a:r>
            <a:r>
              <a:rPr b="1" lang="sr-C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антибиотици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ћење нежељених дејстава леко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коекономија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ф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мацеутски маркетин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улаторни послов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енцијалне листе леков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авне набавке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менклатура леков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значавање лекова именом јесте саставни део развоја сваког ле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аком леку се током развоја додељују најмање три имена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мијск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неричко 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штићено име ле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менклатура лекова – хемијско име ле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59552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мијско име лека јесте име које означава хемијску структуру ле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дељује се у најранијим фазама развоја лека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ђународне уније за чисту и примењену хемију (енг. International Union of Pure and Applied Chemistry (IUPAC))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мијско име лека је универзално, али је комплексно и није погодно за свакодневну примен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менклатура лекова – генеричко име ле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неричко или официнално име лека јесте име лека које додељује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кспертски тим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З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о је званичних монографија лекова у фармакопеја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литератури се означава и као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ђународно незаштићено име (eng. International Nonproprietary Names (IN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љ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инствени и универзални ниво у номенклатури леко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могућава здравственим стручњацима једноставну идентификацију фармацеутске активне супстанце, безбедно прописивање и издавање лекова и размену стручних и научних информација које се односе на леков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менклатура лекова – генеричко име ле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68360" y="141264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ређивање овог нивоа номенклатуре лекова подлеже законским и научним принципим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fix-infix-stem” систе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611280" y="2629080"/>
          <a:ext cx="7777080" cy="3968640"/>
        </p:xfrm>
        <a:graphic>
          <a:graphicData uri="http://schemas.openxmlformats.org/drawingml/2006/table">
            <a:tbl>
              <a:tblPr/>
              <a:tblGrid>
                <a:gridCol w="2592360"/>
                <a:gridCol w="2592360"/>
                <a:gridCol w="2592360"/>
              </a:tblGrid>
              <a:tr h="61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НА ГРУПА ЛЕК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МЕ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azo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тимикотиц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етоконазол, миконазол, клотримазол..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alol/-ilol/-olo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кови који блокирају бета рецептор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пранолол, бисопролол, карведилол..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azepam/-azol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ксиолитиц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оразепам, бромазепам, алпразолам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83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prazo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хибитори протонске пумп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нтопразол, омепразол, есомепразол..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менклатура лекова – заштићено име ле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нални ниво номенклатуре леко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асништво је компаније која тај лек региструје и дистрибуир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з заштићено име лека стоји ознака ® (eng. registered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инствено на тржишту, кратко, једноставно за памћење и изгово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сме садржати промотивни тон, нити упућивати на посебност и супериорност лек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штовање културолошких апеката средина у којима је планирано да се лек региструј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цификација леко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9280" y="1915920"/>
            <a:ext cx="8964720" cy="42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фикација  (</a:t>
            </a: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ificatio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lat.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–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рставање на класе или групе, подела појма према задатом критеријуму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ови се класификују на више различитих ниво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557360"/>
            <a:ext cx="77724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sr-R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удије коришћења лекова</a:t>
            </a: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141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28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Интегрисане академске студије фармациј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28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И1 Увод у фармацеутску пракс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удије  коришћења леков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удије  коришћења лекова (</a:t>
            </a:r>
            <a:r>
              <a:rPr b="1" i="1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g. 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ug utilization research</a:t>
            </a:r>
            <a:r>
              <a:rPr b="1" i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-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arketing, distribution, prescription, and use of drugs in a society, with special emphasis on the resulting medical, social and economic consequences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" 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77. године</a:t>
            </a:r>
            <a:r>
              <a:rPr b="0" i="1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r>
              <a:rPr b="0" i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O</a:t>
            </a:r>
            <a:r>
              <a:rPr b="0" i="1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пидемиологија</a:t>
            </a:r>
            <a:r>
              <a:rPr b="0" i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ка која проучава дистрибуције и одлике здравствених стања и догађаја унутар опште популације, као и примену ових сазнања у циљу контроле здравственог стања популације</a:t>
            </a:r>
            <a:r>
              <a:rPr b="0" i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коепидемиологија</a:t>
            </a:r>
            <a:r>
              <a:rPr b="0" i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њује принципе епидемиологије примарно на </a:t>
            </a:r>
            <a:r>
              <a:rPr b="0" lang="sr-R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оучавање клиничке употребе лекова у општој популациј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рне дефиниције фармакоепидемиологије истичу њен значај као науке која "</a:t>
            </a:r>
            <a:r>
              <a:rPr b="0" i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учава употребу и ефекте/нежељене ефекте лекова у великом броју пацијената а са циљем рационалније, ефикасније али и исплативије употребе лекова и унапређењу исхода лечења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удије  коришћења леков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коепидемиологија јесте орјентисана примарно ка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ЛЕКОВИМА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хватајући безбедност и ефикасност појединачних лекова или група лекова или ка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ТРОШЊИ ЛЕКОВ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циљу унапређивања квалитета примене лекова употребом педагошких (едукативних) интервенција међу здравственим професионалцима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удије коришћење лекова могу бити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СКРИПТИВН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 и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ТИЧК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а имају за циљ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опишу схеме употребе лекова и да идентификују проблеме везане за употребу и потрошњу лекова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удије  коришћења леков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ТИЧКЕ </a:t>
            </a:r>
            <a:r>
              <a:rPr b="0" lang="sr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удије коришћење лекова успостављају везу између података о </a:t>
            </a:r>
            <a:r>
              <a:rPr b="0" i="1" lang="sr-RS" sz="27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ТРОШЊИ</a:t>
            </a:r>
            <a:r>
              <a:rPr b="0" i="1" lang="sr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ова и података о </a:t>
            </a:r>
            <a:r>
              <a:rPr b="0" i="1" lang="sr-RS" sz="27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МОРБИДИТЕТУ</a:t>
            </a:r>
            <a:r>
              <a:rPr b="0" i="1" lang="sr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sr-RS" sz="27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СХОДИМА ЛЕЧЕЊА И КВАЛИТЕТУ НЕГЕ</a:t>
            </a:r>
            <a:r>
              <a:rPr b="0" i="1" lang="sr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 јединственим циљем утврђивања </a:t>
            </a:r>
            <a:r>
              <a:rPr b="1" lang="sr-RS" sz="27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да ли је </a:t>
            </a:r>
            <a:r>
              <a:rPr b="1" i="1" lang="sr-RS" sz="27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ОТРОШЊА </a:t>
            </a:r>
            <a:r>
              <a:rPr b="1" lang="sr-RS" sz="27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лекова </a:t>
            </a:r>
            <a:r>
              <a:rPr b="1" i="1" lang="sr-RS" sz="27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РАЦИОНАЛНА (ОПРВАДАНА) </a:t>
            </a:r>
            <a:r>
              <a:rPr b="1" lang="sr-RS" sz="27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или</a:t>
            </a:r>
            <a:r>
              <a:rPr b="1" i="1" lang="sr-RS" sz="27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 НЕ</a:t>
            </a:r>
            <a:r>
              <a:rPr b="0" i="1" lang="sr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акав тип студија при дизајнирању може бити усмерен на  </a:t>
            </a:r>
            <a:r>
              <a:rPr b="1" i="1" lang="sr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</a:t>
            </a:r>
            <a:r>
              <a:rPr b="0" i="1" lang="sr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однос доза-ефекат/ концентрација-ефекат), </a:t>
            </a:r>
            <a:r>
              <a:rPr b="1" i="1" lang="sr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АРА </a:t>
            </a:r>
            <a:r>
              <a:rPr b="0" i="1" lang="sr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индикатори квалитета прописивања лекова) </a:t>
            </a:r>
            <a:r>
              <a:rPr b="0" lang="sr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</a:t>
            </a:r>
            <a:r>
              <a:rPr b="1" i="1" lang="sr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ЦИЈЕНТА </a:t>
            </a:r>
            <a:r>
              <a:rPr b="0" i="1" lang="sr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одабир лека, дозе, усклађеност прописивања са индивидуалним одликама пацијената)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удије  коришћења леков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удије коришћења лекова – заузимају централно место у фармакоепидемиологији с обзиром да описују </a:t>
            </a:r>
            <a:r>
              <a:rPr b="1" i="1" lang="sr-RS" sz="27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БИМ, ПРИРОДУ и ДЕТЕРМИНАНТЕ </a:t>
            </a:r>
            <a:r>
              <a:rPr b="1" lang="sr-RS" sz="27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злагања лековима</a:t>
            </a:r>
            <a:r>
              <a:rPr b="0" lang="sr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мин </a:t>
            </a:r>
            <a:r>
              <a:rPr b="0" i="1" lang="sr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удије коришћења лекова </a:t>
            </a:r>
            <a:r>
              <a:rPr b="0" lang="sr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термин </a:t>
            </a:r>
            <a:r>
              <a:rPr b="0" i="1" lang="sr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коепидемиологија </a:t>
            </a:r>
            <a:r>
              <a:rPr b="0" lang="sr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у модерном добу блискији, сличнији него раније – резултати студија коришћења лекова пружају увид у податке који се односе махом на лекове, (приказ података из региостара великопродаја и слично), док фармакоепидемиологија дефинише популацију у којима се лек примењује  у смислу инциденције, преваленције...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удије  коришћења леков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удије коришћење лекова и фармакоепидемиологије обезбеђују увид у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АЦ, СХЕМУ примене лекова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им и начин примене лекова, тренд примене лекова, али и трошкове примене исти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ВАЛИТЕТ УПОТРЕБЕ ЛЕКОВА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отреба "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dit-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или ревизија  стварне потрошње лекова и поређења са важећим регулативама и водичима примене лекова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варује се  употребом индекса који се односе на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АБИР ЛЕКА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да ли је прописана терапија усклађена са предложеним алгоритмима употребе истих),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ОШКОВЕ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е лека (усклађеност са одабиром најисплативијих тераписјких процедура),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ЗУ ЛЕКА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интериндивидуалне разлике по питању доза, године/доза..),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АКЦИЈЕ ЛЕКОВА и НЕЖЕЉЕНА ДЕЈСТВА ЛЕКОВА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О ПОПУЛАЦИЈЕ ПАЦИЈЕНАТА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и су су упућени у однос корист/ризик примене лекова,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ЛАТИВОСТ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мене лекова..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отреба "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dit-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или ревизија је дефинисана 1976. године (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ook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као својеврсни преглед начина употребе лекова у клиничкој пракси кроз временске интервале, како би се усвојили адекватни принципи прописивања леков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удије  коришћења леков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1187280" y="2060640"/>
            <a:ext cx="6432840" cy="355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77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рачувавање потрошње леков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28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Интегрисане академске студије фармациј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28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И1 Увод у фармацеутску пракс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57200" y="691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рошња лекова се стандардно рачуна у дефинисаним дневним дозама (DDD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ој DDD на 100 болесничких дана (у болничким условима) или као број DDD на 1000 становника (у друштвеној заједници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финисана дневна доза представља меру потрошње лекова и осликава најчешће прописивану дневну дозу датог лек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58560" y="1628640"/>
            <a:ext cx="867708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мирати укупну количину потрошеног лека за  наведени период, у природним јединица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ведену количину у природним јединицама заменити ДД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рошену количину ДДД-а изразити на 100 болесничких дана, или на број становни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 одредити потрошњу лекова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цификација леко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копеји важи следећа класификација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ела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ма пореклу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дроге, хемијски препарати,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ленски препарати, готови лекови, серуми, вакцине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ела према јачини и начини чувањ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media claudenda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paranda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ojne droge, RA lekovi, trigonici, OTC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764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дност ДДД сваког лека се може наћ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1" lang="sr-C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а сајту Светске Здравствене Организације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whocc.no/atc_ddd_index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на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и лекова које финансира РЗЗО ,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rzzo.rs/index.php/lekovi-actual/pretraga-liste-lekov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у фармакотерапијском приручник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 за вежб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интерном оде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љењу је потрошено 500 кутиј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лека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ерапамила (Verapamil</a:t>
            </a:r>
            <a:r>
              <a:rPr b="0" lang="sr-Latn-C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30 таблета х 40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g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ATC C08DA01).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наведени период било је 1000 пацијената који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у у болници били по 14 дан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ишћењем интернет ресурса пронаћи вредонст ДДД за наведени лек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рачунати потрошњу верапамила за наведени период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 х 40  = 1200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g (za jednu kutiju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0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utija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х 1200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g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600 000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DD(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whocc.no/atc_ddd_index/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- 0,24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0 000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g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 240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g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2500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D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0 Х 14 = 14000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 000 /100 = 1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00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DD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 1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D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r>
              <a:rPr b="1" lang="sr-C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17,857 </a:t>
            </a:r>
            <a:r>
              <a:rPr b="1" lang="sr-Latn-C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DD</a:t>
            </a:r>
            <a:r>
              <a:rPr b="1" lang="sr-C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/100</a:t>
            </a:r>
            <a:r>
              <a:rPr b="1" lang="sr-Latn-C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B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ификациони системи леков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чешће се користе у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коепидемиолошким истраживања (праћење употребе и потрошње лекова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асти фармацеутског маркентинг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цеутској регулатив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ификациони системи леков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чешће заступљени класификацион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и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КЛ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ласификациј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Србији) 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Ц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ласификациј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179280" y="1196640"/>
            <a:ext cx="86407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инствена класификација лекова (ЈКЛ)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а је донета крајем 1980-их од стране тадашњих регулаторних тел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КЛ класификација је </a:t>
            </a:r>
            <a:r>
              <a:rPr b="1" lang="sr-CS" sz="28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нумеричког типа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ако да се помоћу њега </a:t>
            </a:r>
            <a:r>
              <a:rPr b="0" lang="sr-CS" sz="28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може идентификовати појединачни фармацеутски препарат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и лек, у различитим фармацеутским формулацијама или ако је произведен у различитим фабрикама има различите ЈКЛ кодов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ЈКЛ класификација -</a:t>
            </a:r>
            <a:r>
              <a:rPr b="0" lang="sr-CS" sz="20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 </a:t>
            </a:r>
            <a:r>
              <a:rPr b="1" lang="sr-CS" sz="20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шифра = 7 арапских бројева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Први број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1" lang="sr-C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фармацеутски облик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0 = ампуле,ампуле бочице, депо ампуле, лио бочице, инфузијски раство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1 = дражеје, капсуле, лингвалете, пастиле, таблете, шумеће таблет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2 = солуције и капи за оралну примену, оралне амуле, кесиц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3 = гранулат, прашак, сируп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4 = гел, крема, маст, раствор за спољашњу употребу, пен, посип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5 = супозиториј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6 = глобуле, вагиналете, стил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7 = аеросол, капи за екстерну примену, лосион, спреј, прашак за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сулфирањ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8 = чајев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9 = остал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Друга два броја</a:t>
            </a:r>
            <a:r>
              <a:rPr b="1" lang="sr-CS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sr-Latn-C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сновн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а</a:t>
            </a:r>
            <a:r>
              <a:rPr b="1" lang="sr-Latn-C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фармаколошк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а</a:t>
            </a:r>
            <a:r>
              <a:rPr b="1" lang="sr-Latn-C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груп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Четврти број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1" lang="sr-Latn-C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фармаколошк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а</a:t>
            </a:r>
            <a:r>
              <a:rPr b="1" lang="sr-Latn-C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подгруп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Пети, шести и седми број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1" lang="sr-Latn-C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ндивидуални број</a:t>
            </a:r>
            <a:r>
              <a:rPr b="1" lang="sr-C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еви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sr-Latn-C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ваког</a:t>
            </a:r>
            <a:r>
              <a:rPr b="1" lang="sr-Latn-C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sr-Latn-C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аковања,</a:t>
            </a:r>
            <a:r>
              <a:rPr b="1" lang="sr-C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sr-Latn-C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блика, концентрације и произвођача </a:t>
            </a:r>
            <a:r>
              <a:rPr b="1" lang="sr-C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готовог ле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ма ЈКЛ сви лекови су распоређени у основних </a:t>
            </a:r>
            <a:r>
              <a:rPr b="1" lang="sr-CS" sz="2000" spc="-1" strike="noStrike" u="sng">
                <a:solidFill>
                  <a:srgbClr val="c0504d"/>
                </a:solidFill>
                <a:uFillTx/>
                <a:latin typeface="Times New Roman"/>
                <a:ea typeface="Times New Roman"/>
              </a:rPr>
              <a:t>19</a:t>
            </a:r>
            <a:r>
              <a:rPr b="1" lang="sr-CS" sz="20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 терапијско-фармаколошких група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од којих свака </a:t>
            </a:r>
            <a:r>
              <a:rPr b="1" lang="sr-CS" sz="20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има до 10 подгрупа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 = вакцине, серуми и имуноглобулин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 и 32 = антимикробни лекови за системску припрем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 = лекови за неоплазм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 и 34 = лекови за ендокрине боле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 = лекови за болести метаболизма и исхран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 = лекови за болести крви и крвотворних орга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 = лекови за душевне болести и поремећај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 = лекови за болести нервног систем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 = лекови за болести ока и ух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и 40 = лекови за болести КВ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= лекови за болести респираторног систем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= лекови за болести дигестивног систем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 = лекови за болести урогениталног систем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 = лекови који се користе у трудноћи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 = лекови за болести коже и поткожног тки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 = лекови за болести мишића, костију и везивног тки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 = лекови за замену крви и парентералну исхран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 = антидоти и антагони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 = дијагностици и контрасна средст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sr-Latn-CS" sz="2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Zoming 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®</a:t>
            </a:r>
            <a:r>
              <a:rPr b="1" lang="sr-Latn-CS" sz="2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(zolmitriptan), AstraZene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1 08 6 720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abl. 3 po 2.5 m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1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ете (фармацеутски облик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  </a:t>
            </a:r>
            <a:r>
              <a:rPr b="1" lang="sr-CS" sz="2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08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ови који делују на нервни систем (фармакодинамска  група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sr-CS" sz="2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6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наркотички аналгетици (фармакодинaмијскa подрупа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          </a:t>
            </a:r>
            <a:r>
              <a:rPr b="1" lang="sr-CS" sz="2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720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видуални бро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чи да шифру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КЛ: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08 6 720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ају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oming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®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ете, 3 са по 2.5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g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олмитриптана, производђача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traZeneca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а се користе код аkутнoг напaдa мигренe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9-13T12:04:13Z</dcterms:created>
  <dc:creator>Author</dc:creator>
  <dc:description/>
  <dc:language>en-US</dc:language>
  <cp:lastModifiedBy>Marina Kostic</cp:lastModifiedBy>
  <dcterms:modified xsi:type="dcterms:W3CDTF">2023-09-11T10:10:42Z</dcterms:modified>
  <cp:revision>25</cp:revision>
  <dc:subject/>
  <dc:title>Интегрисане академске студије фармације  Класификације лекова: АТЦ класификација  Студије коришћења лекова</dc:title>
</cp:coreProperties>
</file>